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029-9ADB-4AAE-A353-1D736FC6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68F-BE70-40A0-89DC-81F8929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BC67-82C0-46DB-8FB6-2CED390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24250-848E-44A8-8B58-A3AB7413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2504E-EDB5-4318-8034-9DACE590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EFF16-696D-4E3C-984E-C00ADD7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A5AC5-38D9-47D3-B7FD-9645813D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6926E-2AF8-41C8-8880-B3E147F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508FE-45F0-4340-9AB7-805B38E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91F3-E271-4C6E-B845-C0316AE2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8F0CE-46FB-4A88-A45E-264D67D7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A3E3A-70F9-45EC-B5D3-0BC57757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A27-9341-449F-97A4-EAE3FF1B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14D08-07CB-4D68-B9FB-B175E67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9EFC6-177B-4BC0-AB63-1561C25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77BB2-F2C9-47CE-932E-9B7AA652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88027-031F-43D1-8EB0-D2DF4592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25BD7-E0D4-41D7-9E68-7F0F4C89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860FA-0CD6-41D7-801F-9BC0FB1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945F6-205B-4691-B029-C575A90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C93CD-156D-4531-B7E9-D48EB81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3CCA3-5135-4154-8DA1-A62C4B8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5F538-DE84-4AD3-830D-31007888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3E6-1036-413D-8E09-D656D45F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864FC-312F-4102-BE50-D8DD1B92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17087-5B35-415D-8911-A26E4761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F2ED-E8D7-4EBB-86CE-9B11E0BC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B0712-D83D-4C73-BFCF-98ECA055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319E2-1FAD-497F-B923-A6AB2DA7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5031-4EE0-4BC9-B3D4-05A06A6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FE7D6-F7AD-4D77-BC80-6E826EE9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E991B-A822-43C0-821C-6F4BBBA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9F1A-5EF9-4FAD-8398-6899F89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151D-9E61-4FD6-8BD5-0456BB9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A1C-E5D1-4632-BAE4-0C127C29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015A-CA99-4169-B1FC-E056C43A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89D81-1236-4EA2-AAF9-3762D61F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DD909-ACFC-4B69-BC44-A9A11362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55CA7-59F8-4AD3-AB84-0F4E8506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E598F-49AE-4117-A939-87D67C8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6FE7-9F9B-4C93-8A15-F0A9C3AB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D3F1B-FAE7-4C81-A482-52244A9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44318-C9D9-4E50-85A9-AD577A65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5E1E-050A-4F1E-B1EA-F664F38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26E02-7D4C-421F-9530-75D412AA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F78C-2575-44DB-B514-844A650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F2327-EE99-4375-9E43-16C7355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0FD3B-D382-4D67-ADF4-CE1CB23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8C7BD-23B7-48D5-BD6C-1500139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10A49-6251-43FC-A10F-B5364535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77306-E8AF-4437-B4E3-C5EDE631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15D-6E34-467E-B6A0-9221CFF3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C95E-11C7-487F-A5BA-E7F27FE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C1E3-BB0E-4E5E-A367-04D2DD4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FC8-6E76-4385-B191-431F2526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2A4-E8E6-4EDE-BC03-DF215CF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A89-66EB-4E33-9946-D84056CE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B30-6579-4BE3-AE62-C98F7CA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AF9E-8240-4F39-AFA9-14FB374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E8D-6215-4FA8-93FD-A3196C9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4CE2-353E-4752-95F6-587DE049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B1D-8E5C-4683-95A3-ECD39D61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F9A7-58E4-49FF-97EE-EC0FC899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5C93-EC31-4694-BE5D-89610157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0880-4CF8-40F1-9DAB-980C5E8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09F7-10EE-489E-B562-640F326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F132-D4B9-4968-B342-A07E932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3D-5BF5-4383-A875-8711A51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4304-B9E8-4E06-9848-8573133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EFC5-BA03-4370-8C74-2953A9F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85EB-8EF0-48F3-92E9-49FCAAC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77A5-B705-4696-9A17-F3B6F2B3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A450-8F42-44D6-9BD4-CDA0B09B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3905-E387-4DCE-A254-4F865822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831F-EA6C-4A61-BB96-93B31C8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ABEF-14A3-4093-A79E-A4284678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C279-1472-4254-897A-BB9622AB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73D6-9390-4A5F-8852-4752BCED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A83-90DE-45F0-95E7-117CCF18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6782-5EEC-4827-9D22-21EB84A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3592-6A64-4234-B951-7D5916E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58ED-54A0-43B2-9EC0-F45E85D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6B6C-6204-469B-9EF1-BA399A6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21B4-5A10-480F-BF0E-CB80ABF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FE22-1CA5-4A9F-B986-09D4AFD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306D-9869-488F-AE33-9E2FFBC0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9EC2-1AD2-4E99-9349-01EDCA3A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59E0-B7FE-4831-A566-A51DD59C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2D18-196A-4E68-A410-E6294A2F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307-6152-436B-B9D8-E3E87897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9276-8826-4662-A2E9-119EAB6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5E00-133B-4660-9B14-0806EF1A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CFCE-A5CF-44D6-A12F-DA08AE2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FE79-1B51-41D8-8027-020AB10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066C-C3B8-48E1-BEC1-2FC6C3B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7786-0B29-4F1B-A482-70EA772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8E822-67ED-4EE0-B677-5C2B86A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19DA-5747-4CD9-97E9-D2AC84B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7CB8-DF07-4F31-BB1F-72647D3C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7E9D-E273-4BC1-B88D-3636C22D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716-3032-42C7-B5AA-6E4958A2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87118-56F7-4FC8-8FF4-2A7EDC26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ED00-6404-4993-87EA-3EC40B0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99C84-BCE2-4F18-9A57-7FABE633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5B77-37AA-45BB-9A9D-B240306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61AD-8A36-4372-8E5F-243CBC3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94F6-2DFB-4B06-8321-06155B6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17B8-B648-4097-B7E3-E28CE3B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7467-FCF0-4D5F-AA03-D688239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E014B-BEDE-45D4-BDB3-E6873E21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5DD4-5F94-4EDC-87C0-FF4E22DD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B58-884D-438A-8235-A51A210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2A32-A824-45F9-A66C-24763506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2E51-BB90-4A08-9879-5150C4A6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F06A-025A-4F24-A1DE-1A3B7AFA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3065-CAA2-44F8-9E1D-F27B285A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40E3-B0E4-4C70-B96B-195658F8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45874-4FF8-4A6B-AEDC-461D754E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4B73-DE65-4A90-85FF-73EB442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B2EA-68E2-482F-8F4A-AE65D1B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7C96-02EE-4318-843F-75D94F1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674F8-AF47-4D77-BC01-535C2C1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A62-A74D-44FA-9884-C18EFEB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1A72-8CA9-49C8-A2DF-F9D3976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2824-4F30-4D1F-BC28-FD6AC14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A2F6-D5F6-45F9-A08F-AD6C2C3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F92B-65E0-4B3B-9DCD-0C4B7777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2887-97C4-4B39-A21B-48F6EE12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A766-9DB6-498F-A574-DD13D30D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7038-1660-46B6-9978-61F4ECC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D7D7-78EC-4679-B684-225DFED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82C50-3791-43D2-B482-452A484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8ED3-C9E5-48FE-AC68-7F31843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9FD-AE90-4098-8430-BB122972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07941-6261-4A4A-9F4B-FAD11EA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30ED-CD33-4A79-AFCD-FB1AD03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8C5BE-ADB6-4B45-AFB0-30E1EE1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2049-1C88-46B2-8890-C7E8EBC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97BF5-A35C-41F9-A28D-E861B67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575A-BBF7-45BA-858D-653FAAE0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D51F-F292-40EB-9A8A-CFB7BBCF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371E-29DF-40BB-B732-DCAD5D23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EF441-A89B-4A01-9BFA-6C2B17E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D8D30-321A-435E-8C49-A68D328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B7D-F285-438E-AB68-243308D9C3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36C-79C5-41AA-9DC8-82535BF01D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5F4-9B06-43D8-A4CF-9C0E55F595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9B2-A9D1-4C09-9DAB-F23324F640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688F-A066-4CAE-B55E-CCED7FFB5B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3C7-0E5F-43E5-945A-32EBA52B0B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D20-5154-4E99-9BE1-4A7CD37C3B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AD55-3B1F-4DA4-AEF2-51201EAA4E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BAD-2A30-4E4A-9964-AEE001C952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C152-66D9-43F0-BE65-B90069D237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CB0-E2BA-471E-86E1-DD50FEA77A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D67A-31C6-4CF4-A6B2-3AF49FF39D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 Znej chválospev môj, z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ej chválospev môj, z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lávu môjho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 naplň celú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jte nebes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uč piesne jasavý tó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ej z večera i z r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 Pána z všetkých sí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z neba zost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chválospev ten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diaľne letí kra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Božej lásky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l už celý sve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z lásky prišiel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pása jediná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ás sa slávy vz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kríž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ľud vždy vďaku vz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z hriechu otroct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si nás vykúp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 lásky navrát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cér a synov pr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novú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hoden našich chvá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37:05Z</dcterms:modified>
  <cp:revision>25</cp:revision>
  <dc:subject/>
  <dc:title>Je veľký náš Pán, on slávy je Kráľ Nech do všetkých strán  spev vrúcnych znie chvál.</dc:title>
</cp:coreProperties>
</file>